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AAE5CE-26AA-4388-AC41-DDDE4FFA51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480D9A-71CB-432A-8776-DAEF10C67F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21D6A1-A24B-406A-B4FE-F3B0E4F424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C0641C-CFE5-4726-9112-866DA170B8A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9863FA-5A22-4471-A6B0-D03B43099DD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8736F2-73FF-4C5A-BA29-A40F5D8188B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21DF81-0BA5-425E-988B-A12A846DFD1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AE48FC-35DE-4483-95EF-22C54658D72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BE4FDD-DC31-43D8-B45C-88975103C3B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6539B6-D807-4AC6-9279-A63590660C9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C430FB-F91E-49FC-AB27-B9B7F390EA5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4A7955-C42F-418B-BE24-F3D09CBBCD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C6C5F6-137C-44EC-994E-7B19F90482D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5B6FCA-2921-4722-9AE9-06B7D2BAFDC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EDD068-FC20-44B6-9EC1-C35DF169CC1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C0FD8D-9188-449B-9889-C9969E1B86C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042449-56C8-4BF7-95E5-C4A67C844EE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18CC29-5945-47B9-A57E-222F30CD47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AE9B01-D9D6-4EA2-B16D-4D9AEC45E7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1D2933-B915-4279-BD7C-0887B299C0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979542-5834-4898-881D-28BE9D56BB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156DC9-BD6F-4B06-8BFB-BD3B46633F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81C9FE-97D7-40B3-A81E-D2B7AEB09E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35DAD6-6930-4615-A9DB-AEDBE65880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762120" cy="6858000"/>
          </a:xfrm>
          <a:prstGeom prst="rect">
            <a:avLst/>
          </a:prstGeom>
          <a:solidFill>
            <a:srgbClr val="417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685800" y="0"/>
            <a:ext cx="2514600" cy="1066680"/>
          </a:xfrm>
          <a:prstGeom prst="rect">
            <a:avLst/>
          </a:prstGeom>
          <a:solidFill>
            <a:srgbClr val="417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55640" y="762120"/>
            <a:ext cx="510552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 flipV="1" rot="5400000">
            <a:off x="4844880" y="-3075840"/>
            <a:ext cx="127080" cy="7953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2a45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 flipV="1" rot="5400000">
            <a:off x="4704480" y="-2768760"/>
            <a:ext cx="127080" cy="784692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100000">
                <a:srgbClr val="ffffff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8099280" y="11592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sldNum" idx="1"/>
          </p:nvPr>
        </p:nvSpPr>
        <p:spPr>
          <a:xfrm>
            <a:off x="690192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2D94F-E996-48F6-954C-CA5D7C1797AC}" type="slidenum">
              <a:rPr b="0" lang="tr-TR" sz="14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0d8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48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sldNum" idx="2"/>
          </p:nvPr>
        </p:nvSpPr>
        <p:spPr>
          <a:xfrm>
            <a:off x="9360" y="6358320"/>
            <a:ext cx="58752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071F0-F05A-4178-8FB1-719500A16F30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116000" y="1700280"/>
            <a:ext cx="676908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DASK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ve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ZORUNLU DEPREM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SİGORTASI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66"/>
                </a:solidFill>
                <a:latin typeface="Arial"/>
              </a:rPr>
              <a:t>*4 Nisan 2006 tarihinde Türkiye Bankalar Birliği’nde yapılan değerlendirme toplantısında yapılan sunumdur.</a:t>
            </a:r>
            <a:br>
              <a:rPr sz="1200"/>
            </a:b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6AAFB1-0619-4403-B6E8-4B92877D156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6" name=""/>
          <p:cNvGraphicFramePr/>
          <p:nvPr/>
        </p:nvGraphicFramePr>
        <p:xfrm>
          <a:off x="826920" y="1557360"/>
          <a:ext cx="7921800" cy="2808360"/>
        </p:xfrm>
        <a:graphic>
          <a:graphicData uri="http://schemas.openxmlformats.org/drawingml/2006/table">
            <a:tbl>
              <a:tblPr/>
              <a:tblGrid>
                <a:gridCol w="1984680"/>
                <a:gridCol w="1136520"/>
                <a:gridCol w="984240"/>
                <a:gridCol w="1152360"/>
                <a:gridCol w="1440000"/>
                <a:gridCol w="1224000"/>
              </a:tblGrid>
              <a:tr h="5922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BÖLGELER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TOPLAM KONUT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SİGORTALI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KONUT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PENETRASYON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ORANLARI%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TEMİNAT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PRİM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276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AKDENİZ BÖLGE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1.663.126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196.971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11,84%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8.259.564.375,00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12.505.465,11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DOĞU ANADOLU BÖLGE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611.788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58.653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9,59%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2.417.001.040,00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4.741.523,34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EGE BÖLGE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2.318.262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456.641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19,70%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17.358.561.380,00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39.377.092,11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GÜNEYDOĞU ANADOLU BÖLGE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742.865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46.744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6,29%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1.901.670.645,00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2.423.561,42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KARADENİZ BÖLGE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1.282.095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162.656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12,69%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6.390.042.355,00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10.489.301,27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MARMARA BÖLGE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4.143.473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1.155.602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27,89%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46.761.536.105,00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89.730.205,59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İÇ ANADOLU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2.227.055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445.469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20,00%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17.654.751.545,00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14.391.184,37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  </a:t>
                      </a:r>
                      <a:r>
                        <a:rPr b="1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TÜRKİYE GENEL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800" spc="-1" strike="noStrike">
                          <a:solidFill>
                            <a:srgbClr val="ff0000"/>
                          </a:solidFill>
                          <a:latin typeface="Verdana"/>
                          <a:ea typeface="Arial"/>
                        </a:rPr>
                        <a:t>12.988.663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800" spc="-1" strike="noStrike">
                          <a:solidFill>
                            <a:srgbClr val="ff0000"/>
                          </a:solidFill>
                          <a:latin typeface="Verdana"/>
                          <a:ea typeface="Arial"/>
                        </a:rPr>
                        <a:t>2.522.736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800" spc="-1" strike="noStrike">
                          <a:solidFill>
                            <a:srgbClr val="ff0000"/>
                          </a:solidFill>
                          <a:latin typeface="Verdana"/>
                          <a:ea typeface="Arial"/>
                        </a:rPr>
                        <a:t>19,42%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800" spc="-1" strike="noStrike">
                          <a:solidFill>
                            <a:srgbClr val="ff0000"/>
                          </a:solidFill>
                          <a:latin typeface="Verdana"/>
                          <a:ea typeface="Arial"/>
                        </a:rPr>
                        <a:t>100.743.127.445,00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800" spc="-1" strike="noStrike">
                          <a:solidFill>
                            <a:srgbClr val="ff0000"/>
                          </a:solidFill>
                          <a:latin typeface="Verdana"/>
                          <a:ea typeface="Arial"/>
                        </a:rPr>
                        <a:t>173.658.333,21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7" name=""/>
          <p:cNvSpPr/>
          <p:nvPr/>
        </p:nvSpPr>
        <p:spPr>
          <a:xfrm rot="16200000">
            <a:off x="-2224800" y="3672360"/>
            <a:ext cx="537516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1062000"/>
                <a:tab algn="l" pos="2124000"/>
                <a:tab algn="l" pos="3186000"/>
                <a:tab algn="l" pos="4248000"/>
                <a:tab algn="l" pos="5310360"/>
                <a:tab algn="l" pos="6372360"/>
                <a:tab algn="l" pos="7434360"/>
                <a:tab algn="l" pos="8496360"/>
                <a:tab algn="l" pos="9558360"/>
                <a:tab algn="l" pos="10620360"/>
              </a:tabLst>
            </a:pPr>
            <a:r>
              <a:rPr b="1" lang="tr-TR" sz="2200" spc="-1" strike="noStrike">
                <a:solidFill>
                  <a:srgbClr val="ffffff"/>
                </a:solidFill>
                <a:latin typeface="Arial"/>
              </a:rPr>
              <a:t>Bölgelere göre Penatrasyon oranları%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BFCEBB-2F00-4A12-9D84-3069A721807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1042920" y="126828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TEMİNAT KAPSAMI VE LİMİTİ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Kapsama giren konutlar için,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depremin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deprem sonucu yangının,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deprem sonucu infilakın,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deprem sonucu yer kaymasının,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verdiği zararlar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      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rot="16200000">
            <a:off x="-2126160" y="3861360"/>
            <a:ext cx="51148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ffffff"/>
                </a:solidFill>
                <a:latin typeface="Arial"/>
              </a:rPr>
              <a:t>Teminat Kapsamı ve limiti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16AA83-37F9-4900-9AFF-3864E863C28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1042560" y="1341360"/>
            <a:ext cx="7643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igortalı binalarda;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281160" indent="-28116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Temeller, ana duvarlar,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281160" indent="-28116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Bağımsız bölümleri ayıran ortak duvarlar, tavan ve tabanlar,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281160" indent="-28116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Merdivenler, sahanlıklar, koridorlar,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281160" indent="-28116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Çatılar ve bacalarda meydana gelenler de dahil olmak üzere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28116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Depremin doğrudan neden olacağı maddi zararlar sigorta bedeline kadar teminat altına alınmaktadır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281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2811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16200000">
            <a:off x="-2398320" y="3956040"/>
            <a:ext cx="547992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1" lang="tr-TR" sz="2200" spc="-1" strike="noStrike">
                <a:solidFill>
                  <a:srgbClr val="ffffff"/>
                </a:solidFill>
                <a:latin typeface="Arial"/>
              </a:rPr>
              <a:t>Teminat Kapsamı ve limiti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4ECAA5-C65C-4631-B6D6-C49823BC1C2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2" name=""/>
          <p:cNvGraphicFramePr/>
          <p:nvPr/>
        </p:nvGraphicFramePr>
        <p:xfrm>
          <a:off x="1763640" y="2349360"/>
          <a:ext cx="6048000" cy="2822400"/>
        </p:xfrm>
        <a:graphic>
          <a:graphicData uri="http://schemas.openxmlformats.org/drawingml/2006/table">
            <a:tbl>
              <a:tblPr/>
              <a:tblGrid>
                <a:gridCol w="4043880"/>
                <a:gridCol w="2004120"/>
              </a:tblGrid>
              <a:tr h="902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tr-TR" sz="2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Sigorta Bedeli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m2 fiyatı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Çelik,Betonarme,Karkas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410,0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Yığma Kagir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290,0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Diğer Yapılar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155,0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3" name=""/>
          <p:cNvSpPr/>
          <p:nvPr/>
        </p:nvSpPr>
        <p:spPr>
          <a:xfrm rot="16200000">
            <a:off x="-2213640" y="3876840"/>
            <a:ext cx="518148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ffffff"/>
                </a:solidFill>
                <a:latin typeface="Arial"/>
              </a:rPr>
              <a:t>Sigorta Bedeli ve Primler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242FA2-8DF4-4598-98E7-972ECD7B675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971280" y="1125000"/>
            <a:ext cx="771516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66"/>
                </a:solidFill>
                <a:latin typeface="Arial"/>
              </a:rPr>
              <a:t>DASK tarafından verilen azami teminat tutarı 2006 yılı için 100.000 YTL olarak belirlenmiştir.</a:t>
            </a:r>
            <a:endParaRPr b="0" lang="en-US" sz="3000" spc="-1" strike="noStrike">
              <a:solidFill>
                <a:srgbClr val="003366"/>
              </a:solidFill>
              <a:latin typeface="Arial"/>
            </a:endParaRPr>
          </a:p>
          <a:p>
            <a:pPr marL="312120" indent="-312120">
              <a:spcBef>
                <a:spcPts val="7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66"/>
                </a:solidFill>
                <a:latin typeface="Arial"/>
              </a:rPr>
              <a:t>Azami teminat tutarının tespitinde mevcut yapı stokunun büyük bir kısmını oluşturan binaların yeniden inşa bedeli (arsa değeri hariç) dikkate alınmaktadır. </a:t>
            </a:r>
            <a:endParaRPr b="0" lang="en-US" sz="3000" spc="-1" strike="noStrike">
              <a:solidFill>
                <a:srgbClr val="003366"/>
              </a:solidFill>
              <a:latin typeface="Arial"/>
            </a:endParaRPr>
          </a:p>
          <a:p>
            <a:pPr marL="312120" indent="-312120">
              <a:spcBef>
                <a:spcPts val="7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66"/>
                </a:solidFill>
                <a:latin typeface="Arial"/>
              </a:rPr>
              <a:t>Eğer meskenin değeri DASK tarafından verilen teminat tutarını aşıyorsa sigortalı, aşan kısım için sigorta şirketlerinden isteğe bağlı olarak ek teminat alabilmektedir.</a:t>
            </a:r>
            <a:endParaRPr b="0" lang="en-US" sz="3000" spc="-1" strike="noStrike">
              <a:solidFill>
                <a:srgbClr val="003366"/>
              </a:solidFill>
              <a:latin typeface="Arial"/>
            </a:endParaRPr>
          </a:p>
          <a:p>
            <a:pPr marL="31212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rot="16200000">
            <a:off x="-1693800" y="4294080"/>
            <a:ext cx="43214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ffffff"/>
                </a:solidFill>
                <a:latin typeface="Arial"/>
              </a:rPr>
              <a:t>Teminat Kapsamı ve limiti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E6C7B5-5BC6-4CAE-B7CF-94EC2D39976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971640" y="1271520"/>
            <a:ext cx="7848360" cy="819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3366"/>
                </a:solidFill>
                <a:latin typeface="Arial"/>
              </a:rPr>
              <a:t>Primlerin Tespiti</a:t>
            </a:r>
            <a:br>
              <a:rPr sz="2800"/>
            </a:b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tr-TR" sz="2800" spc="-1" strike="noStrike">
                <a:solidFill>
                  <a:srgbClr val="003366"/>
                </a:solidFill>
                <a:latin typeface="Arial"/>
              </a:rPr>
              <a:t>Sigorta primi tutarını 3 faktör belirlemektedir: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3366"/>
                </a:solidFill>
                <a:latin typeface="Arial"/>
              </a:rPr>
              <a:t> </a:t>
            </a:r>
            <a:r>
              <a:rPr b="0" lang="tr-TR" sz="2800" spc="-1" strike="noStrike">
                <a:solidFill>
                  <a:srgbClr val="003366"/>
                </a:solidFill>
                <a:latin typeface="Arial"/>
              </a:rPr>
              <a:t>binanın bulunduğu deprem risk bölgesi,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3366"/>
                </a:solidFill>
                <a:latin typeface="Arial"/>
              </a:rPr>
              <a:t> </a:t>
            </a:r>
            <a:r>
              <a:rPr b="0" lang="tr-TR" sz="2800" spc="-1" strike="noStrike">
                <a:solidFill>
                  <a:srgbClr val="003366"/>
                </a:solidFill>
                <a:latin typeface="Arial"/>
              </a:rPr>
              <a:t>binanın yapı tarzı,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3366"/>
                </a:solidFill>
                <a:latin typeface="Arial"/>
              </a:rPr>
              <a:t> </a:t>
            </a:r>
            <a:r>
              <a:rPr b="0" lang="tr-TR" sz="2800" spc="-1" strike="noStrike">
                <a:solidFill>
                  <a:srgbClr val="003366"/>
                </a:solidFill>
                <a:latin typeface="Arial"/>
              </a:rPr>
              <a:t>meskenin brüt yüzölçümü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-4438800" y="2879640"/>
            <a:ext cx="104760" cy="1047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-4438800" y="3154320"/>
            <a:ext cx="104760" cy="10476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-4438800" y="3429000"/>
            <a:ext cx="104760" cy="10476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 rot="16200000">
            <a:off x="-2213640" y="3876840"/>
            <a:ext cx="518148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ffffff"/>
                </a:solidFill>
                <a:latin typeface="Arial"/>
              </a:rPr>
              <a:t>Sigorta Bedeli ve Primler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3CA2EA-D677-4C70-A7A4-E6AA144B204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900000" y="1267920"/>
            <a:ext cx="771552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Önce sigorta bedeli bulunur ve daha sonra bu bedel aşağıdaki tabloda gösterilen tarife fiyatıyla çarpılır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Buna göre, ödenmesi gereken prim tutarı, Zorunlu Deprem Sigortası Tarife ve Talimatında belirlendiği üzere; yapı tarzına göre her yıl tespit edilen birim metrekare maliyetler ve meskenin brüt yüzölçümünün çarpımı sonucu bulunan sigorta bedeli ile tarife fiyatının çarpımı suretiyle hesaplanmaktadır.</a:t>
            </a:r>
            <a:br>
              <a:rPr sz="2000"/>
            </a:b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ÖRNEK </a:t>
            </a:r>
            <a:br>
              <a:rPr sz="2000"/>
            </a:b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100 metrekare, birinci derecede deprem bölgesinde bulunan betonarme bir konutun sigorta bedeli ve sigorta primi şu şekilde hesaplanır:</a:t>
            </a:r>
            <a:br>
              <a:rPr sz="2000"/>
            </a:br>
            <a:br>
              <a:rPr sz="2000"/>
            </a:b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Sigorta Bedeli = brüt yüzölçüm x birim metrekare maliyeti (betonarme)</a:t>
            </a:r>
            <a:br>
              <a:rPr sz="2000"/>
            </a:b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= 100 x 410 YTL = 41.000 YTL </a:t>
            </a:r>
            <a:br>
              <a:rPr sz="2000"/>
            </a:b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Sigorta Primi = sigorta bedeli x tarife fiyatı + maktu prim</a:t>
            </a:r>
            <a:br>
              <a:rPr sz="2000"/>
            </a:b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= 41.000 YTL x 0.0022 + 10 YTL maktu prim =100,20 YTL)</a:t>
            </a:r>
            <a:br>
              <a:rPr sz="2000"/>
            </a:b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rot="16200000">
            <a:off x="-2045880" y="3610080"/>
            <a:ext cx="4824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ffffff"/>
                </a:solidFill>
                <a:latin typeface="Arial"/>
              </a:rPr>
              <a:t>Sigorta Bedeli ve Primler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569DF0-5DAE-4FCB-B653-7D286E418AF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826920" y="1268280"/>
            <a:ext cx="771552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800" spc="-1" strike="noStrike" u="sng">
                <a:solidFill>
                  <a:srgbClr val="003366"/>
                </a:solidFill>
                <a:uFillTx/>
                <a:latin typeface="Arial"/>
              </a:rPr>
              <a:t>Poliçe yenilemelerinin takib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003366"/>
                </a:solidFill>
                <a:latin typeface="Arial"/>
              </a:rPr>
              <a:t>15 Aralık 2005 tarihinden itibaren geçmiş 60 güne ait yenilenmeyen ve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003366"/>
                </a:solidFill>
                <a:latin typeface="Arial"/>
              </a:rPr>
              <a:t>60 gün ileriye dönük vadesi dolacak poliçeler için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i="1" lang="tr-TR" sz="2800" spc="-1" strike="noStrike">
                <a:solidFill>
                  <a:srgbClr val="003366"/>
                </a:solidFill>
                <a:latin typeface="Arial"/>
              </a:rPr>
              <a:t>Günlük olarak yenilenen poliçeler, gün sonlarında bu data ve listelerde güncellenmektedi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1896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3366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rot="16200000">
            <a:off x="-2548080" y="3610440"/>
            <a:ext cx="5834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ffffff"/>
                </a:solidFill>
                <a:latin typeface="Arial"/>
              </a:rPr>
              <a:t>Önemli noktalar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509E96-B166-4A73-943B-43CD75CB868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042920" y="1268280"/>
            <a:ext cx="74898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062000"/>
                <a:tab algn="l" pos="2124000"/>
                <a:tab algn="l" pos="3186000"/>
                <a:tab algn="l" pos="4248000"/>
                <a:tab algn="l" pos="5310360"/>
                <a:tab algn="l" pos="6372360"/>
                <a:tab algn="l" pos="7434360"/>
                <a:tab algn="l" pos="8496360"/>
                <a:tab algn="l" pos="9558360"/>
                <a:tab algn="l" pos="10620360"/>
              </a:tabLst>
            </a:pPr>
            <a:r>
              <a:rPr b="1" lang="tr-TR" sz="2400" spc="-1" strike="noStrike">
                <a:solidFill>
                  <a:srgbClr val="003366"/>
                </a:solidFill>
                <a:latin typeface="Arial"/>
              </a:rPr>
              <a:t>ZORUNLU DEPREM SİGORTASINA DAİR KANUN HÜKMÜNDE KARARNAME</a:t>
            </a:r>
            <a:r>
              <a:rPr b="0" lang="tr-TR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1062000"/>
                <a:tab algn="l" pos="2124000"/>
                <a:tab algn="l" pos="3186000"/>
                <a:tab algn="l" pos="4248000"/>
                <a:tab algn="l" pos="5310360"/>
                <a:tab algn="l" pos="6372360"/>
                <a:tab algn="l" pos="7434360"/>
                <a:tab algn="l" pos="8496360"/>
                <a:tab algn="l" pos="9558360"/>
                <a:tab algn="l" pos="1062036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1062000"/>
                <a:tab algn="l" pos="2124000"/>
                <a:tab algn="l" pos="3186000"/>
                <a:tab algn="l" pos="4248000"/>
                <a:tab algn="l" pos="5310360"/>
                <a:tab algn="l" pos="6372360"/>
                <a:tab algn="l" pos="7434360"/>
                <a:tab algn="l" pos="8496360"/>
                <a:tab algn="l" pos="9558360"/>
                <a:tab algn="l" pos="10620360"/>
              </a:tabLst>
            </a:pPr>
            <a:r>
              <a:rPr b="0" lang="tr-TR" sz="2400" spc="-1" strike="noStrike">
                <a:solidFill>
                  <a:srgbClr val="003366"/>
                </a:solidFill>
                <a:latin typeface="Arial"/>
              </a:rPr>
              <a:t>Zorunlu deprem sigortasının düzenlenmesi, Bakanlar Kurulu’nca 25.11.1999 tarihinde kararlaştırılmıştır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1062000"/>
                <a:tab algn="l" pos="2124000"/>
                <a:tab algn="l" pos="3186000"/>
                <a:tab algn="l" pos="4248000"/>
                <a:tab algn="l" pos="5310360"/>
                <a:tab algn="l" pos="6372360"/>
                <a:tab algn="l" pos="7434360"/>
                <a:tab algn="l" pos="8496360"/>
                <a:tab algn="l" pos="9558360"/>
                <a:tab algn="l" pos="1062036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1062000"/>
                <a:tab algn="l" pos="2124000"/>
                <a:tab algn="l" pos="3186000"/>
                <a:tab algn="l" pos="4248000"/>
                <a:tab algn="l" pos="5310360"/>
                <a:tab algn="l" pos="6372360"/>
                <a:tab algn="l" pos="7434360"/>
                <a:tab algn="l" pos="8496360"/>
                <a:tab algn="l" pos="9558360"/>
                <a:tab algn="l" pos="10620360"/>
              </a:tabLst>
            </a:pPr>
            <a:r>
              <a:rPr b="0" lang="tr-TR" sz="2400" spc="-1" strike="noStrike">
                <a:solidFill>
                  <a:srgbClr val="003366"/>
                </a:solidFill>
                <a:latin typeface="Arial"/>
              </a:rPr>
              <a:t>27 Eylül 2000 tarihinden itibaren kapsam dahilindeki meskenler için deprem sigortası yaptırmak zorunlu hale getirildi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1062000"/>
                <a:tab algn="l" pos="2124000"/>
                <a:tab algn="l" pos="3186000"/>
                <a:tab algn="l" pos="4248000"/>
                <a:tab algn="l" pos="5310360"/>
                <a:tab algn="l" pos="6372360"/>
                <a:tab algn="l" pos="7434360"/>
                <a:tab algn="l" pos="8496360"/>
                <a:tab algn="l" pos="9558360"/>
                <a:tab algn="l" pos="1062036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1062000"/>
                <a:tab algn="l" pos="2124000"/>
                <a:tab algn="l" pos="3186000"/>
                <a:tab algn="l" pos="4248000"/>
                <a:tab algn="l" pos="5310360"/>
                <a:tab algn="l" pos="6372360"/>
                <a:tab algn="l" pos="7434360"/>
                <a:tab algn="l" pos="8496360"/>
                <a:tab algn="l" pos="9558360"/>
                <a:tab algn="l" pos="10620360"/>
              </a:tabLst>
            </a:pPr>
            <a:r>
              <a:rPr b="0" lang="tr-TR" sz="2400" spc="-1" strike="noStrike">
                <a:solidFill>
                  <a:srgbClr val="003366"/>
                </a:solidFill>
                <a:latin typeface="Arial"/>
              </a:rPr>
              <a:t>Sigorta yapmak ve bu Kanun Hükmünde Kararname ile kendisine verilen diğer görevleri yerine getirmek üzere, Bakanlık nezdinde kamu tüzel kişiliğini haiz “Doğal Afet Sigortaları Kurumu” kurulmuştur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rot="16200000">
            <a:off x="-2607840" y="3409200"/>
            <a:ext cx="59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062000"/>
                <a:tab algn="l" pos="2124000"/>
                <a:tab algn="l" pos="3186000"/>
                <a:tab algn="l" pos="4248000"/>
                <a:tab algn="l" pos="5310360"/>
                <a:tab algn="l" pos="6372360"/>
                <a:tab algn="l" pos="7434360"/>
                <a:tab algn="l" pos="8496360"/>
                <a:tab algn="l" pos="9558360"/>
                <a:tab algn="l" pos="1062036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587 sayılı Kanun Hükmündeki Kararnam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095CA2-3A1F-425F-AC9D-D4309FB3E70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900000" y="1197000"/>
            <a:ext cx="80647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3366"/>
              </a:buClr>
              <a:buFont typeface="Arial"/>
              <a:buChar char="•"/>
              <a:tabLst>
                <a:tab algn="l" pos="1062000"/>
                <a:tab algn="l" pos="2124000"/>
                <a:tab algn="l" pos="3186000"/>
                <a:tab algn="l" pos="4248000"/>
                <a:tab algn="l" pos="5310360"/>
                <a:tab algn="l" pos="6372360"/>
                <a:tab algn="l" pos="7434360"/>
                <a:tab algn="l" pos="8496360"/>
                <a:tab algn="l" pos="9558360"/>
                <a:tab algn="l" pos="10620360"/>
              </a:tabLst>
            </a:pPr>
            <a:r>
              <a:rPr b="1" lang="tr-TR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tr-TR" sz="2400" spc="-1" strike="noStrike">
                <a:solidFill>
                  <a:srgbClr val="003366"/>
                </a:solidFill>
                <a:latin typeface="Arial"/>
              </a:rPr>
              <a:t>Kapsamdaki konutları, depreme karşı sigortalamak,</a:t>
            </a:r>
            <a:br>
              <a:rPr sz="2400"/>
            </a:br>
            <a:r>
              <a:rPr b="1" lang="tr-TR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1062000"/>
                <a:tab algn="l" pos="2124000"/>
                <a:tab algn="l" pos="3186000"/>
                <a:tab algn="l" pos="4248000"/>
                <a:tab algn="l" pos="5310360"/>
                <a:tab algn="l" pos="6372360"/>
                <a:tab algn="l" pos="7434360"/>
                <a:tab algn="l" pos="8496360"/>
                <a:tab algn="l" pos="9558360"/>
                <a:tab algn="l" pos="10620360"/>
              </a:tabLst>
            </a:pPr>
            <a:r>
              <a:rPr b="1" lang="tr-TR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tr-TR" sz="2400" spc="-1" strike="noStrike">
                <a:solidFill>
                  <a:srgbClr val="003366"/>
                </a:solidFill>
                <a:latin typeface="Arial"/>
              </a:rPr>
              <a:t>Sigorta sistemini kullanarak devletin depremlerden kaynaklanan mali yükünü azaltmak,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1062000"/>
                <a:tab algn="l" pos="2124000"/>
                <a:tab algn="l" pos="3186000"/>
                <a:tab algn="l" pos="4248000"/>
                <a:tab algn="l" pos="5310360"/>
                <a:tab algn="l" pos="6372360"/>
                <a:tab algn="l" pos="7434360"/>
                <a:tab algn="l" pos="8496360"/>
                <a:tab algn="l" pos="9558360"/>
                <a:tab algn="l" pos="1062036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1062000"/>
                <a:tab algn="l" pos="2124000"/>
                <a:tab algn="l" pos="3186000"/>
                <a:tab algn="l" pos="4248000"/>
                <a:tab algn="l" pos="5310360"/>
                <a:tab algn="l" pos="6372360"/>
                <a:tab algn="l" pos="7434360"/>
                <a:tab algn="l" pos="8496360"/>
                <a:tab algn="l" pos="9558360"/>
                <a:tab algn="l" pos="10620360"/>
              </a:tabLst>
            </a:pPr>
            <a:r>
              <a:rPr b="1" lang="tr-TR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tr-TR" sz="2400" spc="-1" strike="noStrike">
                <a:solidFill>
                  <a:srgbClr val="003366"/>
                </a:solidFill>
                <a:latin typeface="Arial"/>
              </a:rPr>
              <a:t>Deprem hasarlarının karşılanmasında uzun vadeli kaynak birikimini temin etmek,</a:t>
            </a:r>
            <a:br>
              <a:rPr sz="2400"/>
            </a:br>
            <a:r>
              <a:rPr b="1" lang="tr-TR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1062000"/>
                <a:tab algn="l" pos="2124000"/>
                <a:tab algn="l" pos="3186000"/>
                <a:tab algn="l" pos="4248000"/>
                <a:tab algn="l" pos="5310360"/>
                <a:tab algn="l" pos="6372360"/>
                <a:tab algn="l" pos="7434360"/>
                <a:tab algn="l" pos="8496360"/>
                <a:tab algn="l" pos="9558360"/>
                <a:tab algn="l" pos="10620360"/>
              </a:tabLst>
            </a:pPr>
            <a:r>
              <a:rPr b="1" lang="tr-TR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tr-TR" sz="2400" spc="-1" strike="noStrike">
                <a:solidFill>
                  <a:srgbClr val="003366"/>
                </a:solidFill>
                <a:latin typeface="Arial"/>
              </a:rPr>
              <a:t>Deprem riskini sigorta yoluyla uluslararası reasürans ve sermaye piyasalarına dağıtmak,</a:t>
            </a:r>
            <a:br>
              <a:rPr sz="2400"/>
            </a:br>
            <a:r>
              <a:rPr b="1" lang="tr-TR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1062000"/>
                <a:tab algn="l" pos="2124000"/>
                <a:tab algn="l" pos="3186000"/>
                <a:tab algn="l" pos="4248000"/>
                <a:tab algn="l" pos="5310360"/>
                <a:tab algn="l" pos="6372360"/>
                <a:tab algn="l" pos="7434360"/>
                <a:tab algn="l" pos="8496360"/>
                <a:tab algn="l" pos="9558360"/>
                <a:tab algn="l" pos="10620360"/>
              </a:tabLst>
            </a:pPr>
            <a:r>
              <a:rPr b="1" lang="tr-TR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tr-TR" sz="2400" spc="-1" strike="noStrike">
                <a:solidFill>
                  <a:srgbClr val="003366"/>
                </a:solidFill>
                <a:latin typeface="Arial"/>
              </a:rPr>
              <a:t>Toplumda sigorta bilincinin gelişmesine katkıda bulunmak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rot="16200000">
            <a:off x="-2773080" y="3334680"/>
            <a:ext cx="62262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6200" rIns="106200" tIns="52920" bIns="52920" anchor="t">
            <a:spAutoFit/>
          </a:bodyPr>
          <a:p>
            <a:pPr>
              <a:tabLst>
                <a:tab algn="l" pos="0"/>
                <a:tab algn="l" pos="1062000"/>
                <a:tab algn="l" pos="2124000"/>
                <a:tab algn="l" pos="3186000"/>
                <a:tab algn="l" pos="4248000"/>
                <a:tab algn="l" pos="5310360"/>
                <a:tab algn="l" pos="6372360"/>
                <a:tab algn="l" pos="7434360"/>
                <a:tab algn="l" pos="8496360"/>
                <a:tab algn="l" pos="9558360"/>
                <a:tab algn="l" pos="10620360"/>
              </a:tabLst>
            </a:pPr>
            <a:r>
              <a:rPr b="1" lang="tr-TR" sz="2200" spc="-1" strike="noStrike">
                <a:solidFill>
                  <a:srgbClr val="ffffff"/>
                </a:solidFill>
                <a:latin typeface="Arial"/>
              </a:rPr>
              <a:t>DASK’ın Amacı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E0C420-CC3F-4875-A9A6-BABF6E405F1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900000" y="1628640"/>
            <a:ext cx="824400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003366"/>
                </a:solidFill>
                <a:latin typeface="Arial"/>
              </a:rPr>
              <a:t>Zorunlu Deprem sigortası 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003366"/>
                </a:solidFill>
                <a:latin typeface="Arial"/>
              </a:rPr>
              <a:t>25 Sigorta Şirketi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003366"/>
                </a:solidFill>
                <a:latin typeface="Arial"/>
              </a:rPr>
              <a:t>ve 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003366"/>
                </a:solidFill>
                <a:latin typeface="Arial"/>
              </a:rPr>
              <a:t>bu şirketlere bağlı Banka şubeleri ve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003366"/>
                </a:solidFill>
                <a:latin typeface="Arial"/>
              </a:rPr>
              <a:t>acenteler tarafından düzenlenmektedir.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5B66C1-E4C2-408D-A30A-9B87C4049F9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042920" y="765000"/>
            <a:ext cx="7570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Kapsamdaki Binalar</a:t>
            </a:r>
            <a:br>
              <a:rPr sz="2400"/>
            </a:br>
            <a:br>
              <a:rPr sz="2400"/>
            </a:b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Zorunlu Deprem Sigortası, genel anlamda, </a:t>
            </a:r>
            <a:r>
              <a:rPr b="0" i="1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belediye sınırları içinde kalan meskenler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yönelik olarak oluşturulan bir sigorta sistemidir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apuya kayıtlı ve özel mülkiyete tabi taşınmazlar üzerinde mesken olarak inşa edilmiş binalar,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634 sayılı Kat Mülkiyeti Kanunu kapsamındaki bağımsız bölümler,</a:t>
            </a:r>
            <a:br>
              <a:rPr sz="2800"/>
            </a:b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u binaların içinde yer alan ve ticarethane, büro ve benzeri amaçlarla kullanılan bağımsız bölümler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,</a:t>
            </a:r>
            <a:br>
              <a:rPr sz="2400"/>
            </a:b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16200000">
            <a:off x="-2003760" y="3883320"/>
            <a:ext cx="49784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ffffff"/>
                </a:solidFill>
                <a:latin typeface="Arial"/>
              </a:rPr>
              <a:t>Kapsamdaki Binalar</a:t>
            </a:r>
            <a:br>
              <a:rPr sz="2200"/>
            </a:br>
            <a:br>
              <a:rPr sz="1600"/>
            </a:b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D0888A-A42A-4382-AD65-9C3EA289643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1042920" y="1125000"/>
            <a:ext cx="787104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Kapsamdaki Binala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oğal afetler nedeniyle Devlet tarafından yaptırılan veya verilen kredi ile yapılan meskenler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Yukarıdaki koşullara uyan, kat irtifakı tesis edilmiş binalar, tapuda henüz cins tashihi yapılmamış ve tapu kütüğünde vasfı "arsa vs." olarak görünen binalar, tapu tahsisi henüz yapılmamış kooperatif evler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enüz bağımsız tapusu olmayan meskenlerin sigortası, sigorta ettirenin beyanına dayanarak ve arsa tapusuna ait bilgilerle yapılabilmektedi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rot="16200000">
            <a:off x="-2057040" y="3936600"/>
            <a:ext cx="4977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100" spc="-1" strike="noStrike">
                <a:solidFill>
                  <a:srgbClr val="ffffff"/>
                </a:solidFill>
                <a:latin typeface="Arial"/>
              </a:rPr>
              <a:t>Kapsamdaki Binalar</a:t>
            </a:r>
            <a:endParaRPr b="0" lang="en-US" sz="21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5BC7D2-DB84-4105-9E0D-1769A15E902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99640" y="1241280"/>
            <a:ext cx="76438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3366"/>
                </a:solidFill>
                <a:latin typeface="Arial"/>
              </a:rPr>
              <a:t>Kapsam Dışında Kalan Binalar</a:t>
            </a:r>
            <a:br>
              <a:rPr sz="2000"/>
            </a:b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Kamu kurum ve kuruluşlarına ait binalar,</a:t>
            </a:r>
            <a:br>
              <a:rPr sz="2000"/>
            </a:b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Köy yerleşim alanlarında yapılan binalar,</a:t>
            </a:r>
            <a:br>
              <a:rPr sz="2000"/>
            </a:b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Tamamı ticari ve sinai amaçlar için kullanılan binalar (iş hanı, iş merkezi, idari hizmet binaları, eğitim merkezi binaları vs.),</a:t>
            </a:r>
            <a:br>
              <a:rPr sz="2000"/>
            </a:b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İnşaatı henüz tamamlanmamış binalar,</a:t>
            </a:r>
            <a:br>
              <a:rPr sz="2000"/>
            </a:b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27 Aralık 1999 tarihinden sonra mesken olarak inşa edilmiş olan ancak ilgili mevzuat çerçevesinde inşaat ruhsatı bulunmayan bağımsız bölümler ve binalar,</a:t>
            </a:r>
            <a:br>
              <a:rPr sz="2000"/>
            </a:b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Tapuya kayıtlı bulunmayan ve özel mülkiyete tabi olmayan arazi ve arsaların -hazine arazileri vb.- üzerine inşa edilmiş binalar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rot="16200000">
            <a:off x="-1751400" y="4207680"/>
            <a:ext cx="440064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Kapsam Dışında Kalan Binalar</a:t>
            </a:r>
            <a:br>
              <a:rPr sz="2000"/>
            </a:b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C50825-4D06-43F2-A44F-7957E4EB0B1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 rot="16200000">
            <a:off x="-2548080" y="3610440"/>
            <a:ext cx="5834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ffffff"/>
                </a:solidFill>
                <a:latin typeface="Arial"/>
              </a:rPr>
              <a:t>Yıllara göre poliçe üretimleri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826920" y="1341360"/>
          <a:ext cx="7921800" cy="2184480"/>
        </p:xfrm>
        <a:graphic>
          <a:graphicData uri="http://schemas.openxmlformats.org/drawingml/2006/table">
            <a:tbl>
              <a:tblPr/>
              <a:tblGrid>
                <a:gridCol w="2649600"/>
                <a:gridCol w="1808280"/>
                <a:gridCol w="1654200"/>
                <a:gridCol w="1809720"/>
              </a:tblGrid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Tarih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Poliçe adedi (Bin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Prim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Adet artış %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7.09 -31.12.20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15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3.7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00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.42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54.52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00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.12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65.75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-1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0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.0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85.68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-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0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.09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126.21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00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.41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159.08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1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01.01 -</a:t>
                      </a: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1</a:t>
                      </a: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.03.200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14.30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55.40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2" name=""/>
          <p:cNvGraphicFramePr/>
          <p:nvPr/>
        </p:nvGraphicFramePr>
        <p:xfrm>
          <a:off x="611280" y="3616200"/>
          <a:ext cx="8137440" cy="324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3616200"/>
                    <a:ext cx="8137440" cy="324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FF0F1D-1AD0-49C3-9FCE-060D25597FA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042920" y="1268280"/>
            <a:ext cx="76327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1062000"/>
                <a:tab algn="l" pos="2124000"/>
                <a:tab algn="l" pos="3186000"/>
                <a:tab algn="l" pos="4248000"/>
                <a:tab algn="l" pos="5310360"/>
                <a:tab algn="l" pos="6372360"/>
                <a:tab algn="l" pos="7434360"/>
                <a:tab algn="l" pos="8496360"/>
                <a:tab algn="l" pos="9558360"/>
                <a:tab algn="l" pos="10620360"/>
              </a:tabLst>
            </a:pP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Toplam Poliçe Adedi (yaşayan)</a:t>
            </a: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2.522.736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1062000"/>
                <a:tab algn="l" pos="2124000"/>
                <a:tab algn="l" pos="3186000"/>
                <a:tab algn="l" pos="4248000"/>
                <a:tab algn="l" pos="5310360"/>
                <a:tab algn="l" pos="6372360"/>
                <a:tab algn="l" pos="7434360"/>
                <a:tab algn="l" pos="8496360"/>
                <a:tab algn="l" pos="9558360"/>
                <a:tab algn="l" pos="10620360"/>
              </a:tabLst>
            </a:pP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Toplam Teminat (YTL) (yaşayan)</a:t>
            </a: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100.743.127.445.-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1062000"/>
                <a:tab algn="l" pos="2124000"/>
                <a:tab algn="l" pos="3186000"/>
                <a:tab algn="l" pos="4248000"/>
                <a:tab algn="l" pos="5310360"/>
                <a:tab algn="l" pos="6372360"/>
                <a:tab algn="l" pos="7434360"/>
                <a:tab algn="l" pos="8496360"/>
                <a:tab algn="l" pos="9558360"/>
                <a:tab algn="l" pos="10620360"/>
              </a:tabLst>
            </a:pP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Toplam Prim (YTL) (yaşayan)</a:t>
            </a: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173.658.333.-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1062000"/>
                <a:tab algn="l" pos="2124000"/>
                <a:tab algn="l" pos="3186000"/>
                <a:tab algn="l" pos="4248000"/>
                <a:tab algn="l" pos="5310360"/>
                <a:tab algn="l" pos="6372360"/>
                <a:tab algn="l" pos="7434360"/>
                <a:tab algn="l" pos="8496360"/>
                <a:tab algn="l" pos="9558360"/>
                <a:tab algn="l" pos="10620360"/>
              </a:tabLst>
            </a:pP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Ortalama Teminat (YTL)</a:t>
            </a: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39.934.-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1062000"/>
                <a:tab algn="l" pos="2124000"/>
                <a:tab algn="l" pos="3186000"/>
                <a:tab algn="l" pos="4248000"/>
                <a:tab algn="l" pos="5310360"/>
                <a:tab algn="l" pos="6372360"/>
                <a:tab algn="l" pos="7434360"/>
                <a:tab algn="l" pos="8496360"/>
                <a:tab algn="l" pos="9558360"/>
                <a:tab algn="l" pos="10620360"/>
              </a:tabLst>
            </a:pP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Ortalama Prim (YTL)</a:t>
            </a: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69.- 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1062000"/>
                <a:tab algn="l" pos="2124000"/>
                <a:tab algn="l" pos="3186000"/>
                <a:tab algn="l" pos="4248000"/>
                <a:tab algn="l" pos="5310360"/>
                <a:tab algn="l" pos="6372360"/>
                <a:tab algn="l" pos="7434360"/>
                <a:tab algn="l" pos="8496360"/>
                <a:tab algn="l" pos="9558360"/>
                <a:tab algn="l" pos="10620360"/>
              </a:tabLst>
            </a:pP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Yıllık Artış (%)</a:t>
            </a: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17,40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1062000"/>
                <a:tab algn="l" pos="2124000"/>
                <a:tab algn="l" pos="3186000"/>
                <a:tab algn="l" pos="4248000"/>
                <a:tab algn="l" pos="5310360"/>
                <a:tab algn="l" pos="6372360"/>
                <a:tab algn="l" pos="7434360"/>
                <a:tab algn="l" pos="8496360"/>
                <a:tab algn="l" pos="9558360"/>
                <a:tab algn="l" pos="10620360"/>
              </a:tabLst>
            </a:pP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Yenileme Oranı (%)</a:t>
            </a: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32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1062000"/>
                <a:tab algn="l" pos="2124000"/>
                <a:tab algn="l" pos="3186000"/>
                <a:tab algn="l" pos="4248000"/>
                <a:tab algn="l" pos="5310360"/>
                <a:tab algn="l" pos="6372360"/>
                <a:tab algn="l" pos="7434360"/>
                <a:tab algn="l" pos="8496360"/>
                <a:tab algn="l" pos="9558360"/>
                <a:tab algn="l" pos="10620360"/>
              </a:tabLst>
            </a:pP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Ödenen Hasar Dosyası(2000’den it.)</a:t>
            </a: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8.135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1062000"/>
                <a:tab algn="l" pos="2124000"/>
                <a:tab algn="l" pos="3186000"/>
                <a:tab algn="l" pos="4248000"/>
                <a:tab algn="l" pos="5310360"/>
                <a:tab algn="l" pos="6372360"/>
                <a:tab algn="l" pos="7434360"/>
                <a:tab algn="l" pos="8496360"/>
                <a:tab algn="l" pos="9558360"/>
                <a:tab algn="l" pos="10620360"/>
              </a:tabLst>
            </a:pP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Ödenen Hasar Tutarı(YTL)(2000’den it.)   </a:t>
            </a: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15.620.726.-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rot="16200000">
            <a:off x="-2568600" y="3559320"/>
            <a:ext cx="590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Arial"/>
              </a:rPr>
              <a:t>Mevcut Durum / 31 Mart 2006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13E46A-BD12-446E-B730-F5F72D51259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8T13:34:48Z</dcterms:created>
  <dc:creator>tibety</dc:creator>
  <dc:description/>
  <dc:language>en-US</dc:language>
  <cp:lastModifiedBy>mumcum</cp:lastModifiedBy>
  <dcterms:modified xsi:type="dcterms:W3CDTF">2006-04-07T06:28:11Z</dcterms:modified>
  <cp:revision>80</cp:revision>
  <dc:subject/>
  <dc:title>Slide 1</dc:title>
</cp:coreProperties>
</file>